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F99E-C330-4952-A9C9-37AA034D8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D497-B085-4C4D-90A4-6D500FBD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AC65-EB02-4B45-AE48-D596C28BC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264A-6146-4C0A-A93D-1F40FBCFB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3FF3-7457-4197-B7B4-024C8AFC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EDA9-B907-4606-9466-D6CF436E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89D3-9730-43EE-BA60-5E2D7D9C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B9D0-7B91-44B4-A1CB-BACD2CC6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1853-9E1D-48EC-81B8-F09D8ECF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8EB0-8FE0-4BFB-86E2-CE19244F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C804-36CD-4172-86DB-C35BB85F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5C15-FC0D-4653-9D20-D05FE1AC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B0C8-8B06-4647-A904-CD9C340A0B3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image" Target="../media/image55.png"/><Relationship Id="rId10" Type="http://schemas.openxmlformats.org/officeDocument/2006/relationships/image" Target="../media/image56.png"/><Relationship Id="rId11" Type="http://schemas.openxmlformats.org/officeDocument/2006/relationships/image" Target="../media/image57.png"/><Relationship Id="rId12" Type="http://schemas.openxmlformats.org/officeDocument/2006/relationships/image" Target="../media/image58.png"/><Relationship Id="rId13" Type="http://schemas.openxmlformats.org/officeDocument/2006/relationships/image" Target="../media/image59.pn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kodomov.cz/index.php?id=273" TargetMode="Externa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kodomov.cz/index.php?id=285" TargetMode="External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kodomov.cz/index.php?id=272" TargetMode="External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kodomov.cz/index.php?id=278" TargetMode="External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38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 je to s odpady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1882800" cy="1882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843280" y="764640"/>
            <a:ext cx="26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lkoobjemový odp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588000" y="836640"/>
            <a:ext cx="857520" cy="676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148360" y="1916280"/>
            <a:ext cx="857160" cy="285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7164360" y="1916280"/>
            <a:ext cx="790560" cy="371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5364000" y="907920"/>
            <a:ext cx="676440" cy="457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6156360" y="1700280"/>
            <a:ext cx="609480" cy="438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4356000" y="1484280"/>
            <a:ext cx="628920" cy="5716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050560" y="3212280"/>
            <a:ext cx="50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lektrozařízení podléhající zpětnému oběru: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1116000" y="4221000"/>
            <a:ext cx="733320" cy="667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3635280" y="5734080"/>
            <a:ext cx="657360" cy="399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0"/>
          <a:stretch/>
        </p:blipFill>
        <p:spPr>
          <a:xfrm>
            <a:off x="5508720" y="3860640"/>
            <a:ext cx="581040" cy="419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1"/>
          <a:stretch/>
        </p:blipFill>
        <p:spPr>
          <a:xfrm>
            <a:off x="5508720" y="5300640"/>
            <a:ext cx="361800" cy="428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2"/>
          <a:stretch/>
        </p:blipFill>
        <p:spPr>
          <a:xfrm>
            <a:off x="2843280" y="4149720"/>
            <a:ext cx="571320" cy="476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3"/>
          <a:stretch/>
        </p:blipFill>
        <p:spPr>
          <a:xfrm>
            <a:off x="2195640" y="5805360"/>
            <a:ext cx="628560" cy="3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yk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i recyklaci jsou zpracovány odpady na nové materiály. Je důležité dodržovat pravidla třídění odpad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ždý z nás vyhodí za rok asi 150 - 200 kg odpadů. Pokud však odpady už doma třídíte a dáváte je do barevných kontejnerů, umožníte tak recyklaci více než třetiny tohoto množství. Za rok tak můžete vytřídit až 30 kg papíru, 25 kg plastů, 15 kg skla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opel" descr=""/>
          <p:cNvPicPr/>
          <p:nvPr/>
        </p:nvPicPr>
        <p:blipFill>
          <a:blip r:embed="rId1"/>
          <a:stretch/>
        </p:blipFill>
        <p:spPr>
          <a:xfrm>
            <a:off x="5508720" y="1628640"/>
            <a:ext cx="2871720" cy="240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" dur="2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značení obal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ždý obal je vyroben z nějakého materiálu a někdy je velmi obtížné poznat, z čeho je obal vyroben. Proto jsou na obalech různé značky, které nás informují, jak máme s takovým obalem po použití naložit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Šipky s číslem nebo zkratkou nás informují o materiálu, z něhož je obal vyroben. Podle nich poznáme, do kterého kontejneru (Jak třídit) máme obal později vyhodit. V tabulce jsou nejčastější kód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zn_papir" descr=""/>
          <p:cNvPicPr/>
          <p:nvPr/>
        </p:nvPicPr>
        <p:blipFill>
          <a:blip r:embed="rId1"/>
          <a:stretch/>
        </p:blipFill>
        <p:spPr>
          <a:xfrm>
            <a:off x="5435640" y="1844640"/>
            <a:ext cx="140976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5076720" y="1844640"/>
          <a:ext cx="2293920" cy="608040"/>
        </p:xfrm>
        <a:graphic>
          <a:graphicData uri="http://schemas.openxmlformats.org/drawingml/2006/table">
            <a:tbl>
              <a:tblPr/>
              <a:tblGrid>
                <a:gridCol w="898560"/>
                <a:gridCol w="951120"/>
                <a:gridCol w="444240"/>
              </a:tblGrid>
              <a:tr h="2156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4f3a"/>
                          </a:solidFill>
                          <a:latin typeface="Verdana"/>
                          <a:ea typeface="Times New Roman"/>
                        </a:rPr>
                        <a:t>Vlnitá lepenk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4f3a"/>
                          </a:solidFill>
                          <a:latin typeface="Verdana"/>
                          <a:ea typeface="Times New Roman"/>
                        </a:rPr>
                        <a:t>Hladká lepenk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4f3a"/>
                          </a:solidFill>
                          <a:latin typeface="Verdana"/>
                          <a:ea typeface="Times New Roman"/>
                        </a:rPr>
                        <a:t>Pa   pí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zn_sklo" descr=""/>
          <p:cNvPicPr/>
          <p:nvPr/>
        </p:nvPicPr>
        <p:blipFill>
          <a:blip r:embed="rId2"/>
          <a:stretch/>
        </p:blipFill>
        <p:spPr>
          <a:xfrm>
            <a:off x="5508720" y="2781360"/>
            <a:ext cx="146664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5219640" y="2852640"/>
          <a:ext cx="2070000" cy="684360"/>
        </p:xfrm>
        <a:graphic>
          <a:graphicData uri="http://schemas.openxmlformats.org/drawingml/2006/table">
            <a:tbl>
              <a:tblPr/>
              <a:tblGrid>
                <a:gridCol w="604800"/>
                <a:gridCol w="749520"/>
                <a:gridCol w="715680"/>
              </a:tblGrid>
              <a:tr h="2858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4f3a"/>
                          </a:solidFill>
                          <a:latin typeface="Verdana"/>
                          <a:ea typeface="Times New Roman"/>
                        </a:rPr>
                        <a:t>Bílé sk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4f3a"/>
                          </a:solidFill>
                          <a:latin typeface="Verdana"/>
                          <a:ea typeface="Times New Roman"/>
                        </a:rPr>
                        <a:t>Zelené sk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4f3a"/>
                          </a:solidFill>
                          <a:latin typeface="Verdana"/>
                          <a:ea typeface="Times New Roman"/>
                        </a:rPr>
                        <a:t>Hnědé sk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zn_ocel" descr=""/>
          <p:cNvPicPr/>
          <p:nvPr/>
        </p:nvPicPr>
        <p:blipFill>
          <a:blip r:embed="rId3"/>
          <a:stretch/>
        </p:blipFill>
        <p:spPr>
          <a:xfrm>
            <a:off x="5508720" y="4076640"/>
            <a:ext cx="1504800" cy="37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5580000" y="4149720"/>
          <a:ext cx="1347840" cy="912960"/>
        </p:xfrm>
        <a:graphic>
          <a:graphicData uri="http://schemas.openxmlformats.org/drawingml/2006/table">
            <a:tbl>
              <a:tblPr/>
              <a:tblGrid>
                <a:gridCol w="401760"/>
                <a:gridCol w="473040"/>
                <a:gridCol w="473040"/>
              </a:tblGrid>
              <a:tr h="5205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4f3a"/>
                          </a:solidFill>
                          <a:latin typeface="Verdana"/>
                          <a:ea typeface="Times New Roman"/>
                        </a:rPr>
                        <a:t>Oc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4f3a"/>
                          </a:solidFill>
                          <a:latin typeface="Verdana"/>
                          <a:ea typeface="Times New Roman"/>
                        </a:rPr>
                        <a:t>Hliní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4f3a"/>
                          </a:solidFill>
                          <a:latin typeface="Verdana"/>
                          <a:ea typeface="Times New Roman"/>
                        </a:rPr>
                        <a:t>Dřev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řídění odpad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2140920"/>
            <a:ext cx="411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93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apir_nadoba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1133640" cy="1896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16000" y="2421000"/>
            <a:ext cx="6494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93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03800" y="1890720"/>
            <a:ext cx="50544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doba na papír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no: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viny,časopisy,letá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šity,výkresy,kancelářský a počítačový papí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rtonové a lepenkové krabice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nečištěný papír jako mastný papí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užité hygienické potřeby,rozmočený papí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ětské plen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300720" y="5373720"/>
            <a:ext cx="600120" cy="457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885080" y="2492280"/>
            <a:ext cx="6001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835280" y="5373720"/>
            <a:ext cx="476280" cy="390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6877080" y="1844640"/>
            <a:ext cx="504720" cy="523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4572000" y="5157720"/>
            <a:ext cx="542880" cy="533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900000" y="4149720"/>
            <a:ext cx="885960" cy="41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last_nadoba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1123920" cy="1895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16160" y="1383480"/>
            <a:ext cx="6927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ádoba na pla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stové obaly od potravin a drogistického zbož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ko PET láhve od nápojů a rostlinných olejů,kelím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 jogurtů,plastové fólie,obaly od šampónů,plastové výrobky jako hračky,polystyrénové vycpáv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aly od syntetických a minerálních olejů, obaly 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bezpečných chemikál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492360" y="501336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780000" y="260280"/>
            <a:ext cx="533160" cy="752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7308720" y="4581360"/>
            <a:ext cx="714600" cy="590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403280" y="5084640"/>
            <a:ext cx="447840" cy="5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klo_nadoba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1124280" cy="1895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71640" y="1186560"/>
            <a:ext cx="4927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ádoba na sk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leněné obaly jako láhve od nápojů,sklenice od kompotů nebo marmelád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leněné výrobky jako těžítka,okenní tab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rcelánové a keramické zářivky, výbojky střepy, zrcadla, sklo s drátěný jádrem, autoskl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388360" y="1844640"/>
            <a:ext cx="304920" cy="685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740720" y="4797360"/>
            <a:ext cx="295200" cy="704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564000" y="4797360"/>
            <a:ext cx="447480" cy="533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2195640" y="549360"/>
            <a:ext cx="657000" cy="39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2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2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2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2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RTEmagicC_bio_nadoba_02.gif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1844640"/>
            <a:ext cx="1104840" cy="1862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96520" y="1305720"/>
            <a:ext cx="6398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ádoba na biood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mpostovatelné organické zbytky z domác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o slupky,čajové sáčky,zbytky ovoce a zeleniny,zbyt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ídel, listí, tráv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so, kosti, oleje z potravin, tekuté a silně mastné potravin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aly od potravin, uhynulá domácí zvíř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492360" y="5013360"/>
            <a:ext cx="771840" cy="457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7164360" y="4437000"/>
            <a:ext cx="380880" cy="552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8101080" y="1125360"/>
            <a:ext cx="581040" cy="381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5003640" y="4292640"/>
            <a:ext cx="790560" cy="438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5940360" y="4941720"/>
            <a:ext cx="514440" cy="552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8"/>
          <a:stretch/>
        </p:blipFill>
        <p:spPr>
          <a:xfrm>
            <a:off x="1835280" y="4365720"/>
            <a:ext cx="390240" cy="66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2492280"/>
            <a:ext cx="1127160" cy="1900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56000" y="1650960"/>
            <a:ext cx="504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ádoba na nebezpečný od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bezpečné chemické látky a jejich obaly,barvy, lepidla,akumulátory, oleje,ředidla, zářivky,výbojky,lé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508720" y="4221000"/>
            <a:ext cx="590400" cy="5810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7812000" y="1484280"/>
            <a:ext cx="399960" cy="447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7093080" y="3573360"/>
            <a:ext cx="838080" cy="447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2916360" y="5157720"/>
            <a:ext cx="666720" cy="4287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4211640" y="3933720"/>
            <a:ext cx="485640" cy="533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8"/>
          <a:stretch/>
        </p:blipFill>
        <p:spPr>
          <a:xfrm>
            <a:off x="7236000" y="4869000"/>
            <a:ext cx="304560" cy="485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9"/>
          <a:stretch/>
        </p:blipFill>
        <p:spPr>
          <a:xfrm>
            <a:off x="6300720" y="5229360"/>
            <a:ext cx="123840" cy="72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RTEmagicC_napojkarton_nadoba_03.gif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1268280"/>
            <a:ext cx="1123920" cy="1895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708360" y="1197720"/>
            <a:ext cx="4392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ádoba na nápojové kart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trapakové a papírové obaly od nápojů jako jsou mléko,jogurtové nápoje,džusy,ovocné šťávy,ví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astové obaly od nápojů jako PET láhve nebo skleněné láh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7093080" y="4941720"/>
            <a:ext cx="419040" cy="695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7956720" y="907920"/>
            <a:ext cx="419040" cy="695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3419640" y="4221000"/>
            <a:ext cx="428400" cy="7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2133720"/>
            <a:ext cx="1127160" cy="1900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916360" y="1700640"/>
            <a:ext cx="4348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93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93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ádoba na zbytkový od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93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93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93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deokazety,audiokazety,CD neboDVD, keramika a porcelán  žárovka,autosklo,dětské ple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93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227640" y="1052640"/>
            <a:ext cx="542880" cy="342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740720" y="2852640"/>
            <a:ext cx="428400" cy="476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7093080" y="4581360"/>
            <a:ext cx="447480" cy="562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4643280" y="4869000"/>
            <a:ext cx="190800" cy="676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7667640" y="907920"/>
            <a:ext cx="447840" cy="561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>
            <a:off x="5867280" y="5516640"/>
            <a:ext cx="542880" cy="34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76360" y="2565360"/>
            <a:ext cx="1127160" cy="1878120"/>
          </a:xfrm>
          <a:prstGeom prst="rect">
            <a:avLst/>
          </a:prstGeom>
          <a:ln w="0">
            <a:noFill/>
          </a:ln>
        </p:spPr>
      </p:pic>
      <p:pic>
        <p:nvPicPr>
          <p:cNvPr id="97" name="clear" descr=""/>
          <p:cNvPicPr/>
          <p:nvPr/>
        </p:nvPicPr>
        <p:blipFill>
          <a:blip r:embed="rId2"/>
          <a:stretch/>
        </p:blipFill>
        <p:spPr>
          <a:xfrm>
            <a:off x="2709720" y="2319480"/>
            <a:ext cx="371520" cy="9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854240" y="2114280"/>
            <a:ext cx="179496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" rIns="9360" tIns="936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ádoba na ko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09720" y="2319480"/>
            <a:ext cx="279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09720" y="2319480"/>
            <a:ext cx="279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709720" y="2832120"/>
          <a:ext cx="279360" cy="1035000"/>
        </p:xfrm>
        <a:graphic>
          <a:graphicData uri="http://schemas.openxmlformats.org/drawingml/2006/table">
            <a:tbl>
              <a:tblPr/>
              <a:tblGrid>
                <a:gridCol w="2793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3419640" y="1454400"/>
            <a:ext cx="5329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ovové obaly jako plechovky od nápojů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železné a ocelové předměty,výrobky z hliníku a barevných kov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chovky od oleje, nebezpečných chemických lát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885080" y="4653000"/>
            <a:ext cx="352440" cy="542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3419640" y="5229360"/>
            <a:ext cx="447480" cy="295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7451640" y="620640"/>
            <a:ext cx="285840" cy="533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6084720" y="5300640"/>
            <a:ext cx="714600" cy="485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539640" y="5300640"/>
            <a:ext cx="371520" cy="552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09:27:32Z</dcterms:created>
  <dc:creator>Jarmila Komárková</dc:creator>
  <dc:description/>
  <dc:language>en-US</dc:language>
  <cp:lastModifiedBy>Mikesh</cp:lastModifiedBy>
  <dcterms:modified xsi:type="dcterms:W3CDTF">2007-01-08T19:31:39Z</dcterms:modified>
  <cp:revision>6</cp:revision>
  <dc:subject/>
  <dc:title>Jak je to s odpady ?</dc:title>
</cp:coreProperties>
</file>